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6.png" ContentType="image/png"/>
  <Override PartName="/ppt/media/image2.png" ContentType="image/pn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46546-DE26-4E0A-8465-7C1C53B3EF7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2000" spc="-1" strike="noStrike">
              <a:solidFill>
                <a:srgbClr val="000000"/>
              </a:solidFill>
              <a:latin typeface="Arial"/>
              <a:ea typeface="msgothic"/>
            </a:endParaRPr>
          </a:p>
        </p:txBody>
      </p:sp>
      <p:sp>
        <p:nvSpPr>
          <p:cNvPr id="254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F9404-9B16-42E1-A1EC-8FA59AB64E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20573-A1DF-4AB3-AFFE-6BE347C96C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C1188-938A-494B-9DC5-554A67EDE6B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EA289-2340-4206-94E6-796BAE3A106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5280F-F1D0-4640-93C1-CA2E1DF6DA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118C-C018-433F-895D-6EEC9608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3F5-4A2D-4AA8-B06A-0F2BEEFB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B4D-5627-465B-997A-CBBDF374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8AD-109D-446D-98BE-AC921694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2A4-665E-4B80-96BF-6C1EB618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2B5-8FC5-4AB3-BB1A-10C23B23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CC0-DDAA-485B-8B85-9A3F4EAA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D72A-DCBF-406C-B3B0-4F416BD0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2F1-E110-4219-8FAF-65EE8476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28F-6D77-40EE-B26D-BB6657B3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AB1-2230-4298-B09C-A16C3A14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1D2-4B3F-48FC-A800-6CDA0EAD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F4AFF-A193-4567-B9AB-C9F6E9E781A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addictedtor.free.fr/graphiques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books.google.ca/books?id=wgY1FLKogHwC&amp;printsec=frontcover&amp;dq=nicholas+Horton+R+graphics&amp;source=bl&amp;ots=fJaRuTXjtK&amp;sig=jh3E3iddbII5QyJIZoWFt_eea_w&amp;hl=en&amp;ei=GBqVTfOzOsa2tgfLjqGUDA&amp;sa=X&amp;oi=book_result&amp;ct=result&amp;resnum=1&amp;ved=0CBYQ6AEwAA#v=onepage&amp;q&amp;f=false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6000" spc="-1" strike="noStrike">
                <a:solidFill>
                  <a:srgbClr val="000080"/>
                </a:solidFill>
                <a:latin typeface="Arial"/>
              </a:rPr>
              <a:t>BIE578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360" y="104400"/>
            <a:ext cx="9869760" cy="7335720"/>
          </a:xfrm>
          <a:prstGeom prst="rect">
            <a:avLst/>
          </a:prstGeom>
          <a:blipFill rotWithShape="0">
            <a:blip r:embed="rId1">
              <a:alphaModFix amt="25000"/>
            </a:blip>
            <a:stretch/>
          </a:blipFill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Unidade 5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riação e Edição de 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; )     : (     &gt;:p    :^ 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46320" y="1509840"/>
            <a:ext cx="5729400" cy="55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06440" y="600120"/>
            <a:ext cx="6954840" cy="290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-23832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hernoff 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24080" y="3830760"/>
            <a:ext cx="807408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representação simplificada de ro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relacionada a até 18 dimensões de da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discriminar, agrupar e reconhecer padr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3320" y="6265800"/>
            <a:ext cx="9977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erman Chernoff (1973). The Use of Faces to Represent Points in K-Dimensional Space Graphically. Journal of the American Statistical Association 68(342): 361–36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06440" y="600120"/>
            <a:ext cx="6954840" cy="29098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-23832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hernoff 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5400" y="3830760"/>
            <a:ext cx="881388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programados a reconhecer expres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inferimos (acreditamos) personalidade/cará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reconhecemos o estado de ânim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3320" y="6265800"/>
            <a:ext cx="9977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erman Chernoff (1973). The Use of Faces to Represent Points in K-Dimensional Space Graphically. Journal of the American Statistical Association 68(342): 361–36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06440" y="600120"/>
            <a:ext cx="6954840" cy="2909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-23832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hernoff 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5400" y="3830760"/>
            <a:ext cx="881388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éto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variáveis representam formas e tamanho dos elementos que compõem a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complexidade e interação das variá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hierarquia e reaprese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9680" y="6770520"/>
            <a:ext cx="9977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erman Chernoff (1973). The Use of Faces to Represent Points in K-Dimensional Space Graphically. Journal of the American Statistical Association 68(342): 361–36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835200"/>
            <a:ext cx="10080720" cy="144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10080720" cy="8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edd1d1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38160" y="1467000"/>
            <a:ext cx="8665560" cy="5684760"/>
            <a:chOff x="938160" y="1467000"/>
            <a:chExt cx="8665560" cy="5684760"/>
          </a:xfrm>
        </p:grpSpPr>
        <p:grpSp>
          <p:nvGrpSpPr>
            <p:cNvPr id="85" name=""/>
            <p:cNvGrpSpPr/>
            <p:nvPr/>
          </p:nvGrpSpPr>
          <p:grpSpPr>
            <a:xfrm>
              <a:off x="5026680" y="1467000"/>
              <a:ext cx="4577040" cy="5684760"/>
              <a:chOff x="5026680" y="1467000"/>
              <a:chExt cx="4577040" cy="5684760"/>
            </a:xfrm>
          </p:grpSpPr>
          <p:pic>
            <p:nvPicPr>
              <p:cNvPr id="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49000" y="1467000"/>
                <a:ext cx="4554720" cy="568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 rot="20880000">
                <a:off x="5106960" y="3906000"/>
                <a:ext cx="1348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pt-BR" sz="1800" spc="-1" strike="noStrike">
                    <a:solidFill>
                      <a:srgbClr val="ffffff"/>
                    </a:solidFill>
                    <a:latin typeface="Bradley Hand ITC"/>
                  </a:rPr>
                  <a:t>Como fazer um gráfic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938160" y="1494000"/>
              <a:ext cx="354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2400" spc="-1" strike="noStrike">
                  <a:solidFill>
                    <a:srgbClr val="800000"/>
                  </a:solidFill>
                  <a:latin typeface="Arial"/>
                </a:rPr>
                <a:t>Dez mandamentos do Professor Glauco para fazer um bom gráf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82440" y="63360"/>
            <a:ext cx="61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GRÁFICOS E TABE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39880" y="3394080"/>
            <a:ext cx="1970280" cy="3038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2898360" y="3511440"/>
            <a:ext cx="600120" cy="312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79840" y="3225960"/>
            <a:ext cx="1009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lau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62040" y="1474920"/>
            <a:ext cx="875988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ão fazer gráficos tridimensionais ou coloridos a menos que seja estritamente necess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ão colocar bordas externas nos grá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ão usar eixos desnecess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mover as linhas de 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ão usar preenchimentos desnecess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ão colocar título no grá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ar vírgulas e não ponto nas casas decimais (texto em portuguê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locar as unidades de medida na legenda dos eix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riar legendas que tornem o gráfico auto-explic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itar as figuras na ordem em que elas aparecem no 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35200"/>
            <a:ext cx="10080720" cy="144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10080720" cy="8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edd1d1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440" y="63360"/>
            <a:ext cx="61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GRÁFICOS E TABE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992160" y="1311120"/>
            <a:ext cx="8464680" cy="5869080"/>
            <a:chOff x="992160" y="1311120"/>
            <a:chExt cx="8464680" cy="58690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992160" y="1311120"/>
              <a:ext cx="8464680" cy="58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794040" y="1731960"/>
              <a:ext cx="289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Tipos de amb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0" y="835200"/>
            <a:ext cx="10080720" cy="144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10080720" cy="8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edd1d1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440" y="63360"/>
            <a:ext cx="61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GRÁFICOS E TABE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81320" y="1903320"/>
            <a:ext cx="758880" cy="4264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40360" y="3287880"/>
            <a:ext cx="760320" cy="2879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70680" y="4514760"/>
            <a:ext cx="760320" cy="1654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502000" y="1611360"/>
            <a:ext cx="1440" cy="456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20640" y="617544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420640" y="5607000"/>
            <a:ext cx="82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420640" y="503712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420640" y="446580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420640" y="3895560"/>
            <a:ext cx="82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420640" y="332424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420640" y="275436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420640" y="218448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420640" y="1612800"/>
            <a:ext cx="82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00240" y="610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00240" y="5533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00240" y="4964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00240" y="4394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00240" y="38242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00240" y="3251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00240" y="2682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00240" y="2111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00240" y="1541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63120" y="2476800"/>
            <a:ext cx="30528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tura das árvores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4520" y="6175440"/>
            <a:ext cx="5707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2000" y="6175440"/>
            <a:ext cx="14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16400" y="6175440"/>
            <a:ext cx="14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19720" y="6175440"/>
            <a:ext cx="180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21600" y="6175440"/>
            <a:ext cx="180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77760" y="6286680"/>
            <a:ext cx="1329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rra fi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68200" y="6286680"/>
            <a:ext cx="1020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er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64920" y="6286680"/>
            <a:ext cx="764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ix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4320" y="6824520"/>
            <a:ext cx="130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373560" y="1638360"/>
            <a:ext cx="4155840" cy="2854440"/>
            <a:chOff x="3373560" y="1638360"/>
            <a:chExt cx="4155840" cy="2854440"/>
          </a:xfrm>
        </p:grpSpPr>
        <p:grpSp>
          <p:nvGrpSpPr>
            <p:cNvPr id="136" name=""/>
            <p:cNvGrpSpPr/>
            <p:nvPr/>
          </p:nvGrpSpPr>
          <p:grpSpPr>
            <a:xfrm>
              <a:off x="3373560" y="1638360"/>
              <a:ext cx="347400" cy="250920"/>
              <a:chOff x="3373560" y="1638360"/>
              <a:chExt cx="347400" cy="250920"/>
            </a:xfrm>
          </p:grpSpPr>
          <p:sp>
            <p:nvSpPr>
              <p:cNvPr id="137" name=""/>
              <p:cNvSpPr/>
              <p:nvPr/>
            </p:nvSpPr>
            <p:spPr>
              <a:xfrm>
                <a:off x="3541680" y="1652760"/>
                <a:ext cx="0" cy="236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73560" y="1638360"/>
                <a:ext cx="3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264280" y="2884320"/>
              <a:ext cx="347400" cy="389160"/>
              <a:chOff x="5264280" y="2884320"/>
              <a:chExt cx="347400" cy="389160"/>
            </a:xfrm>
          </p:grpSpPr>
          <p:sp>
            <p:nvSpPr>
              <p:cNvPr id="140" name=""/>
              <p:cNvSpPr/>
              <p:nvPr/>
            </p:nvSpPr>
            <p:spPr>
              <a:xfrm>
                <a:off x="5432400" y="2905200"/>
                <a:ext cx="0" cy="36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264280" y="2884320"/>
                <a:ext cx="3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7182000" y="4354560"/>
              <a:ext cx="347400" cy="138240"/>
              <a:chOff x="7182000" y="4354560"/>
              <a:chExt cx="347400" cy="138240"/>
            </a:xfrm>
          </p:grpSpPr>
          <p:sp>
            <p:nvSpPr>
              <p:cNvPr id="143" name=""/>
              <p:cNvSpPr/>
              <p:nvPr/>
            </p:nvSpPr>
            <p:spPr>
              <a:xfrm>
                <a:off x="7350120" y="4362480"/>
                <a:ext cx="0" cy="13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82000" y="4354560"/>
                <a:ext cx="34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3317760" y="1217520"/>
            <a:ext cx="4254480" cy="3084480"/>
            <a:chOff x="3317760" y="1217520"/>
            <a:chExt cx="4254480" cy="3084480"/>
          </a:xfrm>
        </p:grpSpPr>
        <p:sp>
          <p:nvSpPr>
            <p:cNvPr id="146" name=""/>
            <p:cNvSpPr/>
            <p:nvPr/>
          </p:nvSpPr>
          <p:spPr>
            <a:xfrm>
              <a:off x="3317760" y="12175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07040" y="24638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40600" y="39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0" y="835200"/>
            <a:ext cx="10080720" cy="144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10080720" cy="8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edd1d1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40" y="63360"/>
            <a:ext cx="61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GRÁFICOS E TABE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2502000" y="1611360"/>
            <a:ext cx="1440" cy="456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420640" y="617544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420640" y="5607000"/>
            <a:ext cx="82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420640" y="503712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420640" y="446580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20640" y="3895560"/>
            <a:ext cx="82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420640" y="332424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420640" y="275436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420640" y="2184480"/>
            <a:ext cx="82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420640" y="1612800"/>
            <a:ext cx="82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00240" y="6103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00240" y="5533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00240" y="4964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00240" y="4394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00240" y="38242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00240" y="3251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00240" y="2682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00240" y="2111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00240" y="1541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63120" y="2476800"/>
            <a:ext cx="30528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tura das árvores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14520" y="6175440"/>
            <a:ext cx="5707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2000" y="6175440"/>
            <a:ext cx="14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16400" y="6175440"/>
            <a:ext cx="14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19720" y="6175440"/>
            <a:ext cx="180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21600" y="6175440"/>
            <a:ext cx="180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36360" y="6286680"/>
            <a:ext cx="1329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rra fi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38040" y="6286680"/>
            <a:ext cx="1020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er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96440" y="6286680"/>
            <a:ext cx="764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ix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54320" y="6824520"/>
            <a:ext cx="130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835200"/>
            <a:ext cx="10080720" cy="144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10080720" cy="83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edd1d1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440" y="63360"/>
            <a:ext cx="61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GRÁFICOS E TABE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853320" y="4838760"/>
            <a:ext cx="690120" cy="1063440"/>
            <a:chOff x="6853320" y="4838760"/>
            <a:chExt cx="690120" cy="1063440"/>
          </a:xfrm>
        </p:grpSpPr>
        <p:sp>
          <p:nvSpPr>
            <p:cNvPr id="185" name=""/>
            <p:cNvSpPr/>
            <p:nvPr/>
          </p:nvSpPr>
          <p:spPr>
            <a:xfrm>
              <a:off x="6853320" y="5061600"/>
              <a:ext cx="690120" cy="525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9440" y="5327640"/>
              <a:ext cx="68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7201800" y="4838760"/>
              <a:ext cx="0" cy="22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37720" y="4840200"/>
              <a:ext cx="11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191360" y="5585400"/>
              <a:ext cx="9720" cy="31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37720" y="590220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060880" y="2711520"/>
            <a:ext cx="676080" cy="1987560"/>
            <a:chOff x="5060880" y="2711520"/>
            <a:chExt cx="676080" cy="1987560"/>
          </a:xfrm>
        </p:grpSpPr>
        <p:sp>
          <p:nvSpPr>
            <p:cNvPr id="192" name=""/>
            <p:cNvSpPr/>
            <p:nvPr/>
          </p:nvSpPr>
          <p:spPr>
            <a:xfrm flipH="1" flipV="1">
              <a:off x="5392080" y="2711520"/>
              <a:ext cx="4320" cy="75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38080" y="2712960"/>
              <a:ext cx="115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60880" y="3461760"/>
              <a:ext cx="673200" cy="869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71680" y="3890160"/>
              <a:ext cx="66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96760" y="4335480"/>
              <a:ext cx="1080" cy="35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38080" y="4699080"/>
              <a:ext cx="11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181320" y="1870200"/>
            <a:ext cx="690120" cy="1301760"/>
            <a:chOff x="3181320" y="1870200"/>
            <a:chExt cx="690120" cy="1301760"/>
          </a:xfrm>
        </p:grpSpPr>
        <p:sp>
          <p:nvSpPr>
            <p:cNvPr id="199" name=""/>
            <p:cNvSpPr/>
            <p:nvPr/>
          </p:nvSpPr>
          <p:spPr>
            <a:xfrm>
              <a:off x="3181320" y="2142720"/>
              <a:ext cx="690120" cy="642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87800" y="2468520"/>
              <a:ext cx="68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529800" y="1870200"/>
              <a:ext cx="0" cy="27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67520" y="1871640"/>
              <a:ext cx="11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519360" y="2783880"/>
              <a:ext cx="9720" cy="38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67520" y="3171960"/>
              <a:ext cx="114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3303720" y="14414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94440" y="228132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72480" y="442440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41520" y="366840"/>
            <a:ext cx="87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adrões do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29198" r="0" b="29198"/>
          <a:stretch/>
        </p:blipFill>
        <p:spPr>
          <a:xfrm>
            <a:off x="981000" y="4902120"/>
            <a:ext cx="3960720" cy="2227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318280" y="2354400"/>
            <a:ext cx="4762440" cy="4349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07800" y="1317600"/>
            <a:ext cx="454356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804680"/>
            <a:ext cx="9070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fletir sobre a representação dos 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ercepção da potencialidade: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Rgall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ógica dos dispositivos e do pacote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graph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ncipais funções; parâmetros; alto nível; baixo nível;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contrar os recursos gráficos: help, buscas (Rc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ursos mais avançados (pacote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79480" y="1658880"/>
            <a:ext cx="6667560" cy="4699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85920" y="6835680"/>
            <a:ext cx="9982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Fine Paul et al. 2004. Herbivores promote habitat specialization by trees in Amazonian forests. </a:t>
            </a: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:305(5684):663-5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melhor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20800" y="2246400"/>
            <a:ext cx="702324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apresenta os dados clar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ressalta o que é interess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acu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conc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esteticamente agradáv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 O EDITOR GOS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ógica dos Gráficos no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1805040"/>
            <a:ext cx="97408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positivo Gráfic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la (moni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quivo (pdf, jpeg, ti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âmetros globais do dispositivos: par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ções de nível alto: plot( ); hist( ); coplot ( ); image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ções de nível baixo: points( ); lines( ), rect( )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ções interativas: locator ( ); identify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 no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20320"/>
            <a:ext cx="9070920" cy="67993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positivo tel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X11( ); x11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rtz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windows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positivos de arqu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tscript ( ); pdf ( ) ; jpeg ( ); tiff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nipulando os disposit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.cur 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.list 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.off 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Vantagem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duzir gráficos no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formato deseja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/ou com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esolução adequad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à pub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0328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6000" spc="-1" strike="noStrike">
                <a:solidFill>
                  <a:srgbClr val="ffffff"/>
                </a:solidFill>
                <a:latin typeface="Calibri"/>
              </a:rPr>
              <a:t>Vamos ao R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135240" y="2021040"/>
            <a:ext cx="4545000" cy="55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 no R</a:t>
            </a:r>
            <a:br>
              <a:rPr sz="44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ar(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51740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âmetros do Dis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ns parâmetros só podem ser modificados no par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eb613d"/>
                </a:solidFill>
                <a:latin typeface="Arial"/>
              </a:rPr>
              <a:t>mfrow, 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ns padem ser modificado nas funções de nível alto ou mesmo baix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eb613d"/>
                </a:solidFill>
                <a:latin typeface="Arial"/>
              </a:rPr>
              <a:t>cex, col, p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ulte o help das funções e do par( ) para lista completa de arg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41520" y="314280"/>
            <a:ext cx="873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ção de alto ní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7120" y="1028880"/>
            <a:ext cx="93664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ot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Arial"/>
              </a:rPr>
              <a:t>Função genérica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pende da classe do objeto us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" y="2289240"/>
            <a:ext cx="968868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ot(x, y) ou plot(xy): dispersão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se x e y são vetores numéricos ou matriz com 2 colu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ot(x): série temporal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se x for observações ao longo do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ot(f, y): box-plot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se f for fator e y vetor numé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ot(df): matriz de dispersão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df=data.frame: dispersão de todas as combin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ot(~ formula): matriz de dispersão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 todas as combinações das variávies da fó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ot(y ~ formula): matriz de dispersão</a:t>
            </a:r>
            <a:br>
              <a:rPr sz="2400"/>
            </a:br>
            <a:r>
              <a:rPr b="1" lang="pt-B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y versus todas as váriáveis da fó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1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1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1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41520" y="314280"/>
            <a:ext cx="87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Função de alto ní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040" y="1157400"/>
            <a:ext cx="9688680" cy="63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st(x) 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histograma de frequência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oxplot(x); boxplot(y~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caixa ou qua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plot(x, y): 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multiplas linhas (covariâ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our(x,y,z):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gráfico de superfície com curvas de ní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age(x,y,z):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 representação de uma matriz de dados na escala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sp(x,y, z):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 ~ 3D contou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440" indent="-3510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clust(d):</a:t>
            </a:r>
            <a:br>
              <a:rPr sz="2400"/>
            </a:b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 multivariado: gráfico de agrupamento aglom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0328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6000" spc="-1" strike="noStrike">
                <a:solidFill>
                  <a:srgbClr val="ffffff"/>
                </a:solidFill>
                <a:latin typeface="Calibri"/>
              </a:rPr>
              <a:t>Vamos ao R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135240" y="2021040"/>
            <a:ext cx="4545000" cy="55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 no R</a:t>
            </a:r>
            <a:br>
              <a:rPr sz="44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ar(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53680" y="1233360"/>
            <a:ext cx="9070920" cy="5770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ifica e ou atua no dispositivo gráfico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 parâme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frow=c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fcol=c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r=c(4,2,2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x=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l=”r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mily= “seri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nt=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ch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w=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-22320"/>
            <a:ext cx="80964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1000" y="1325520"/>
            <a:ext cx="4589280" cy="4221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37000" y="6703920"/>
            <a:ext cx="5859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ioInformática: “Biological data visualizatio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40160" y="1082520"/>
            <a:ext cx="4618080" cy="48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 no R</a:t>
            </a:r>
            <a:br>
              <a:rPr sz="44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ar(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51740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âmetros do Dis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ns parâmetros só podem ser modificados no par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eb613d"/>
                </a:solidFill>
                <a:latin typeface="Arial"/>
              </a:rPr>
              <a:t>mfrow, 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ns padem ser modificado nas funções de nível alto ou mesmo baix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eb613d"/>
                </a:solidFill>
                <a:latin typeface="Arial"/>
              </a:rPr>
              <a:t>cex, col, p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ulte o help das funções e do par( ) para lista completa de arg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 no R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62360" y="3070080"/>
            <a:ext cx="44481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addictedtor.free.fr/graphiqu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 no R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668760" y="1979640"/>
            <a:ext cx="6029280" cy="54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 no R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 gráfico de metanális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076480" y="1341360"/>
            <a:ext cx="6372360" cy="59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2920" y="-166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 no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724040" y="825480"/>
            <a:ext cx="6724800" cy="673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 no R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5680" y="609480"/>
            <a:ext cx="2643120" cy="34275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683160" y="2487600"/>
            <a:ext cx="2411280" cy="3465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7157880" y="853920"/>
            <a:ext cx="238140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IM DA UNIDAD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1640" y="1984320"/>
            <a:ext cx="94345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Para a tar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lantão Tutoriais e exercícios Unidade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Até sex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sta 5 de Exercíc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939080" y="627120"/>
            <a:ext cx="171468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05040"/>
            <a:ext cx="907092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presentação esquemática de alguma infor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hart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lustração que representa os dados através de símbo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lot: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Técnica gráfica para representar um conjunto de 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presentação que revela e ressalta padrões de interesse mantendo a estrutura original dos 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7120" y="2193840"/>
            <a:ext cx="9364680" cy="37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cc3300"/>
                </a:solidFill>
                <a:latin typeface="Arial"/>
              </a:rPr>
              <a:t>Princípios básicos da apresentação gráf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saltar os padrões de interess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nter a estrutura dos dados, de forma que o leitor possa reconstruir os dados a partir da figur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figura deve ter uma razão </a:t>
            </a:r>
            <a:r>
              <a:rPr b="0" lang="pt-BR" sz="2800" spc="-1" strike="noStrike">
                <a:solidFill>
                  <a:srgbClr val="cc3300"/>
                </a:solidFill>
                <a:latin typeface="Arial"/>
              </a:rPr>
              <a:t>dado:tint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lt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figuras </a:t>
            </a:r>
            <a:r>
              <a:rPr b="0" lang="pt-BR" sz="2800" spc="-1" strike="noStrike">
                <a:solidFill>
                  <a:srgbClr val="cc3300"/>
                </a:solidFill>
                <a:latin typeface="Arial"/>
              </a:rPr>
              <a:t>n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vem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distorc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exager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apar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s d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celência Grá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5520" y="6696000"/>
            <a:ext cx="9923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lison, A.M. 2001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ploratory Data Analysis and Graphic Displa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Cap.3: 37-62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:Scheiner, S.M &amp; Gurevitch, J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esign and Analysis of Ecological  Experiment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xford Univesity Press. Oxf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melhor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melhor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20800" y="2616120"/>
            <a:ext cx="70232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 que o editor gosta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melhor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20800" y="2246400"/>
            <a:ext cx="70232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apresenta os dados clar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ressalta o que é interess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acu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conc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esteticamente agradáv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30400" y="1370160"/>
            <a:ext cx="5821200" cy="593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21:39:42Z</dcterms:created>
  <dc:creator/>
  <dc:description/>
  <dc:language>en-US</dc:language>
  <cp:lastModifiedBy>alexandre </cp:lastModifiedBy>
  <dcterms:modified xsi:type="dcterms:W3CDTF">2011-04-01T00:12:25Z</dcterms:modified>
  <cp:revision>145</cp:revision>
  <dc:subject/>
  <dc:title/>
</cp:coreProperties>
</file>